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3FB1-B115-48DE-95EC-6A750CDB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A88-7F0F-4D4E-93F1-182BAAA8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4F68-CE1E-4A46-BA9F-F5EDB080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18F-E147-4090-B2BE-75F8623E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A90-7BB4-41CA-8B8D-AA82C940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30F2-A385-4E11-A10B-B96B2C6B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B4C-8A6C-4F49-9342-13398AEE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9053-1E46-407E-A7B9-7A73E9E4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1970-4DE5-49BA-9EAE-5EF29BA7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F4D1-BCE7-4934-9887-1C7C9B58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D0E-5C47-4752-90AE-AEA91E2E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A2C-FA3B-4728-B4D3-5B96CEED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C93B-1FC1-42E8-A841-36B12522B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fresh.snowboardermag.com/wp-content/uploads/gallery/2010-burton-snowboards/burton-custom-v-rocker-snowboard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ediamakersafrica.com/images/image/Compass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09080" cy="16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yan's self information tit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3295440" cy="3716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11640" y="3213000"/>
            <a:ext cx="4680000" cy="3275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00720" y="1844640"/>
            <a:ext cx="2592360" cy="1298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00000" y="2133720"/>
            <a:ext cx="46008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2060640"/>
            <a:ext cx="38098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121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26560" y="1557360"/>
            <a:ext cx="374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916280"/>
            <a:ext cx="1939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ell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indic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3624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titu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ell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286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84720" y="1989000"/>
            <a:ext cx="39211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occu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At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381960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metro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langara col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pressure washing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03640" y="4149720"/>
            <a:ext cx="25207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15756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35280" y="1700280"/>
            <a:ext cx="43704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20:46:42Z</dcterms:created>
  <dc:creator>r.barwick</dc:creator>
  <dc:description/>
  <dc:language>en-US</dc:language>
  <cp:lastModifiedBy>r.barwick</cp:lastModifiedBy>
  <dcterms:modified xsi:type="dcterms:W3CDTF">2010-02-23T22:24:33Z</dcterms:modified>
  <cp:revision>5</cp:revision>
  <dc:subject/>
  <dc:title>Ryan's self information title page</dc:title>
</cp:coreProperties>
</file>